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143-102C-4FBF-B8FA-129BE5B601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E649-943B-445E-A13B-5E76DFCEA0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396-D7EC-4A6B-A447-CF0D09CC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9FC-E4E4-4F29-873C-3061724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107-7436-40BC-9684-0B67C783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083-DF2C-4306-A644-B08E6C05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47A-F27E-4EA7-969A-8838F710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697-E776-4415-B6C2-A6ACDDB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523-6A0D-4C58-A117-5AB98A3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8F4-4296-4D88-B423-5E9EE46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F70-2059-44D4-921A-F146677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D4E-1CB0-4114-90D3-5A4F338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4F5-463E-4CB4-AF74-2CAABFB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57E-7F06-4B6A-94BD-496C942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EAF-3BD3-4F4E-98F8-5BA1672B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457200" y="129528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505320" y="838080"/>
            <a:ext cx="0" cy="632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876920" y="533520"/>
            <a:ext cx="0" cy="624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6160" y="9907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70 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67652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3560" y="228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ck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666880" y="1371600"/>
            <a:ext cx="83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BoJangl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36576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762120" y="20574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503160" y="175248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ary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3809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9528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 rot="16200000">
            <a:off x="2517120" y="3731040"/>
            <a:ext cx="12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321 So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457200" y="53352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2058480" y="22860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-40 exit 130 turn lef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4876920" y="3276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4958640" y="297180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2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 rot="5400000">
            <a:off x="4932360" y="413136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 Anderson Av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5791320" y="3962520"/>
            <a:ext cx="6858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 rot="5400000">
            <a:off x="5660640" y="4327200"/>
            <a:ext cx="1143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2285 Anders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0c0"/>
                </a:solidFill>
                <a:latin typeface="Arial"/>
              </a:rPr>
              <a:t>CCS Annex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457200" y="68580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4038840" y="68580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2133720" y="693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 flipV="1">
            <a:off x="327672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7"/>
          <p:cNvSpPr/>
          <p:nvPr/>
        </p:nvSpPr>
        <p:spPr>
          <a:xfrm>
            <a:off x="3505320" y="5715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3430080" y="5257800"/>
            <a:ext cx="95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xon S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 flipV="1">
            <a:off x="5029200" y="647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388620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3"/>
          <p:cNvSpPr/>
          <p:nvPr/>
        </p:nvSpPr>
        <p:spPr>
          <a:xfrm rot="5400000">
            <a:off x="4269240" y="31960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 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234720" y="7924680"/>
            <a:ext cx="512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om Hwy 16 Nor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urn left onto E. 2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. Turn right onto N. Anderson Ave.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ex is on the left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5"/>
          <p:cNvSpPr/>
          <p:nvPr/>
        </p:nvSpPr>
        <p:spPr>
          <a:xfrm flipH="1">
            <a:off x="5105520" y="6934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228600" y="830592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om Hwy 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urn left onto Hwy 321 N. Turn right onto 2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 (by Exxon)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Hwy 16 N. at stop light turn left, go through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oplight. Turn right onto E. 2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. Turn Left onto N. Anderson Ave. The Annex will be on the right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 rot="16200000">
            <a:off x="4572720" y="5943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 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5029200" y="2438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6"/>
          <p:cNvSpPr/>
          <p:nvPr/>
        </p:nvSpPr>
        <p:spPr>
          <a:xfrm>
            <a:off x="5105880" y="2438280"/>
            <a:ext cx="58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S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4942080" y="20908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 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9"/>
          <p:cNvSpPr/>
          <p:nvPr/>
        </p:nvSpPr>
        <p:spPr>
          <a:xfrm>
            <a:off x="5547960" y="533520"/>
            <a:ext cx="130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Statesvil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-40 exit 13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rn right,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n left at stop ligh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6"/>
          <p:cNvSpPr/>
          <p:nvPr/>
        </p:nvSpPr>
        <p:spPr>
          <a:xfrm>
            <a:off x="1828800" y="380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7"/>
          <p:cNvSpPr/>
          <p:nvPr/>
        </p:nvSpPr>
        <p:spPr>
          <a:xfrm flipH="1">
            <a:off x="5791320" y="380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9"/>
          <p:cNvSpPr/>
          <p:nvPr/>
        </p:nvSpPr>
        <p:spPr>
          <a:xfrm>
            <a:off x="5715000" y="68580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0"/>
          <p:cNvSpPr/>
          <p:nvPr/>
        </p:nvSpPr>
        <p:spPr>
          <a:xfrm>
            <a:off x="6324480" y="7010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1"/>
          <p:cNvSpPr/>
          <p:nvPr/>
        </p:nvSpPr>
        <p:spPr>
          <a:xfrm rot="16200000">
            <a:off x="2738160" y="2198160"/>
            <a:ext cx="498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1371960" y="68580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3"/>
          <p:cNvSpPr/>
          <p:nvPr/>
        </p:nvSpPr>
        <p:spPr>
          <a:xfrm>
            <a:off x="4495680" y="5410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p   Ligh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4"/>
          <p:cNvSpPr/>
          <p:nvPr/>
        </p:nvSpPr>
        <p:spPr>
          <a:xfrm>
            <a:off x="4876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5"/>
          <p:cNvSpPr/>
          <p:nvPr/>
        </p:nvSpPr>
        <p:spPr>
          <a:xfrm>
            <a:off x="57913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6"/>
          <p:cNvSpPr/>
          <p:nvPr/>
        </p:nvSpPr>
        <p:spPr>
          <a:xfrm rot="16200000">
            <a:off x="2451960" y="6004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321 Nor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7"/>
          <p:cNvSpPr/>
          <p:nvPr/>
        </p:nvSpPr>
        <p:spPr>
          <a:xfrm>
            <a:off x="33526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9"/>
          <p:cNvSpPr/>
          <p:nvPr/>
        </p:nvSpPr>
        <p:spPr>
          <a:xfrm>
            <a:off x="4884480" y="51814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2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50292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 flipV="1">
            <a:off x="5715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2"/>
          <p:cNvSpPr/>
          <p:nvPr/>
        </p:nvSpPr>
        <p:spPr>
          <a:xfrm>
            <a:off x="1981080" y="2209680"/>
            <a:ext cx="381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3"/>
          <p:cNvSpPr/>
          <p:nvPr/>
        </p:nvSpPr>
        <p:spPr>
          <a:xfrm rot="16200000">
            <a:off x="1862280" y="240624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Lo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2138040" y="6553080"/>
            <a:ext cx="95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Western Ste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7"/>
          <p:cNvSpPr/>
          <p:nvPr/>
        </p:nvSpPr>
        <p:spPr>
          <a:xfrm>
            <a:off x="342900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0"/>
          <p:cNvSpPr/>
          <p:nvPr/>
        </p:nvSpPr>
        <p:spPr>
          <a:xfrm>
            <a:off x="1219320" y="1447920"/>
            <a:ext cx="75960" cy="75960"/>
          </a:xfrm>
          <a:custGeom>
            <a:avLst/>
            <a:gdLst>
              <a:gd name="textAreaLeft" fmla="*/ 23400 w 75960"/>
              <a:gd name="textAreaRight" fmla="*/ 52560 w 7596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1"/>
          <p:cNvSpPr/>
          <p:nvPr/>
        </p:nvSpPr>
        <p:spPr>
          <a:xfrm>
            <a:off x="1295280" y="137160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McDonal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2"/>
          <p:cNvSpPr/>
          <p:nvPr/>
        </p:nvSpPr>
        <p:spPr>
          <a:xfrm>
            <a:off x="457200" y="22096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45720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wa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4"/>
          <p:cNvSpPr/>
          <p:nvPr/>
        </p:nvSpPr>
        <p:spPr>
          <a:xfrm>
            <a:off x="2666880" y="14479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5"/>
          <p:cNvSpPr/>
          <p:nvPr/>
        </p:nvSpPr>
        <p:spPr>
          <a:xfrm>
            <a:off x="3276720" y="198108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6"/>
          <p:cNvSpPr/>
          <p:nvPr/>
        </p:nvSpPr>
        <p:spPr>
          <a:xfrm>
            <a:off x="3276720" y="2362320"/>
            <a:ext cx="75960" cy="75960"/>
          </a:xfrm>
          <a:custGeom>
            <a:avLst/>
            <a:gdLst>
              <a:gd name="textAreaLeft" fmla="*/ 23400 w 75960"/>
              <a:gd name="textAreaRight" fmla="*/ 52560 w 7596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 rot="16200000">
            <a:off x="2705400" y="1711800"/>
            <a:ext cx="12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KFC      SONI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 rot="16200000">
            <a:off x="1439640" y="343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Italy Grill    Papa Johns Osaka        Panda Wo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9"/>
          <p:cNvSpPr/>
          <p:nvPr/>
        </p:nvSpPr>
        <p:spPr>
          <a:xfrm>
            <a:off x="2057400" y="42670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 rot="16200000">
            <a:off x="2973240" y="472320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zza Hu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1"/>
          <p:cNvSpPr/>
          <p:nvPr/>
        </p:nvSpPr>
        <p:spPr>
          <a:xfrm>
            <a:off x="3352680" y="51814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2"/>
          <p:cNvSpPr/>
          <p:nvPr/>
        </p:nvSpPr>
        <p:spPr>
          <a:xfrm rot="16200000">
            <a:off x="3461400" y="6901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Burger Kin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3"/>
          <p:cNvSpPr/>
          <p:nvPr/>
        </p:nvSpPr>
        <p:spPr>
          <a:xfrm>
            <a:off x="3657600" y="73152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7"/>
          <p:cNvSpPr/>
          <p:nvPr/>
        </p:nvSpPr>
        <p:spPr>
          <a:xfrm>
            <a:off x="4648320" y="632448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8"/>
          <p:cNvSpPr/>
          <p:nvPr/>
        </p:nvSpPr>
        <p:spPr>
          <a:xfrm rot="16200000">
            <a:off x="3042360" y="25959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Taco Bel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0"/>
          <p:cNvSpPr/>
          <p:nvPr/>
        </p:nvSpPr>
        <p:spPr>
          <a:xfrm>
            <a:off x="2057400" y="36576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1"/>
          <p:cNvSpPr/>
          <p:nvPr/>
        </p:nvSpPr>
        <p:spPr>
          <a:xfrm>
            <a:off x="2209680" y="42670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2"/>
          <p:cNvSpPr/>
          <p:nvPr/>
        </p:nvSpPr>
        <p:spPr>
          <a:xfrm>
            <a:off x="2133720" y="66294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4"/>
          <p:cNvSpPr/>
          <p:nvPr/>
        </p:nvSpPr>
        <p:spPr>
          <a:xfrm>
            <a:off x="4343400" y="58672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5"/>
          <p:cNvSpPr/>
          <p:nvPr/>
        </p:nvSpPr>
        <p:spPr>
          <a:xfrm flipV="1">
            <a:off x="2057400" y="144720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7"/>
          <p:cNvSpPr/>
          <p:nvPr/>
        </p:nvSpPr>
        <p:spPr>
          <a:xfrm>
            <a:off x="3505320" y="10666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Cookou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8"/>
          <p:cNvSpPr/>
          <p:nvPr/>
        </p:nvSpPr>
        <p:spPr>
          <a:xfrm flipH="1" flipV="1">
            <a:off x="3504600" y="1143000"/>
            <a:ext cx="75960" cy="122400"/>
          </a:xfrm>
          <a:custGeom>
            <a:avLst/>
            <a:gdLst>
              <a:gd name="textAreaLeft" fmla="*/ 23400 w 75960"/>
              <a:gd name="textAreaRight" fmla="*/ 52560 w 75960"/>
              <a:gd name="textAreaTop" fmla="*/ 46800 h 122400"/>
              <a:gd name="textAreaBottom" fmla="*/ 93600 h 122400"/>
            </a:gdLst>
            <a:ahLst/>
            <a:rect l="textAreaLeft" t="textAreaTop" r="textAreaRight" b="textAreaBottom"/>
            <a:pathLst>
              <a:path w="76200" h="122238">
                <a:moveTo>
                  <a:pt x="0" y="46691"/>
                </a:moveTo>
                <a:lnTo>
                  <a:pt x="29106" y="46691"/>
                </a:lnTo>
                <a:lnTo>
                  <a:pt x="38100" y="0"/>
                </a:lnTo>
                <a:lnTo>
                  <a:pt x="47094" y="46691"/>
                </a:lnTo>
                <a:lnTo>
                  <a:pt x="76200" y="46691"/>
                </a:lnTo>
                <a:lnTo>
                  <a:pt x="52653" y="75547"/>
                </a:lnTo>
                <a:lnTo>
                  <a:pt x="61647" y="122238"/>
                </a:lnTo>
                <a:lnTo>
                  <a:pt x="38100" y="93381"/>
                </a:lnTo>
                <a:lnTo>
                  <a:pt x="14553" y="122238"/>
                </a:lnTo>
                <a:lnTo>
                  <a:pt x="23547" y="7554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9"/>
          <p:cNvSpPr/>
          <p:nvPr/>
        </p:nvSpPr>
        <p:spPr>
          <a:xfrm>
            <a:off x="609480" y="1371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El Pas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0"/>
          <p:cNvSpPr/>
          <p:nvPr/>
        </p:nvSpPr>
        <p:spPr>
          <a:xfrm>
            <a:off x="609480" y="14479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8"/>
          <p:cNvSpPr/>
          <p:nvPr/>
        </p:nvSpPr>
        <p:spPr>
          <a:xfrm>
            <a:off x="4114800" y="83808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Sidewalk Café &amp; Bakery  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0"/>
          <p:cNvSpPr/>
          <p:nvPr/>
        </p:nvSpPr>
        <p:spPr>
          <a:xfrm rot="16200000">
            <a:off x="3991320" y="614268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Little Pig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Dianne’s Dai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271800" y="7562880"/>
            <a:ext cx="51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owntown New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Geppeto’s Pizza and Subs, Zander’s Coffeehouse, Callahan’s Caf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1"/>
          <p:cNvSpPr/>
          <p:nvPr/>
        </p:nvSpPr>
        <p:spPr>
          <a:xfrm>
            <a:off x="2200320" y="366696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-Point Star 96"/>
          <p:cNvSpPr/>
          <p:nvPr/>
        </p:nvSpPr>
        <p:spPr>
          <a:xfrm>
            <a:off x="4114800" y="9144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  <a:ea typeface="Arial"/>
              </a:rPr>
              <a:t>Hardee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4"/>
          <p:cNvSpPr/>
          <p:nvPr/>
        </p:nvSpPr>
        <p:spPr>
          <a:xfrm rot="16200000">
            <a:off x="3419640" y="2185560"/>
            <a:ext cx="53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Ligh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5-Point Star 101"/>
          <p:cNvSpPr/>
          <p:nvPr/>
        </p:nvSpPr>
        <p:spPr>
          <a:xfrm flipH="1" flipV="1">
            <a:off x="3276000" y="29718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520 h 76320"/>
              <a:gd name="textAreaBottom" fmla="*/ 5868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03"/>
          <p:cNvSpPr/>
          <p:nvPr/>
        </p:nvSpPr>
        <p:spPr>
          <a:xfrm flipH="1">
            <a:off x="456840" y="83808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-Point Star 110"/>
          <p:cNvSpPr/>
          <p:nvPr/>
        </p:nvSpPr>
        <p:spPr>
          <a:xfrm>
            <a:off x="4267080" y="6094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1"/>
          <p:cNvSpPr/>
          <p:nvPr/>
        </p:nvSpPr>
        <p:spPr>
          <a:xfrm>
            <a:off x="4267080" y="533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Jennifer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Café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-Point Star 112"/>
          <p:cNvSpPr/>
          <p:nvPr/>
        </p:nvSpPr>
        <p:spPr>
          <a:xfrm flipH="1">
            <a:off x="4876200" y="9144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3"/>
          <p:cNvSpPr/>
          <p:nvPr/>
        </p:nvSpPr>
        <p:spPr>
          <a:xfrm>
            <a:off x="4876920" y="838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Conover Tave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7:46:34Z</dcterms:created>
  <dc:creator>Tammy_Burns</dc:creator>
  <dc:description/>
  <dc:language>en-US</dc:language>
  <cp:lastModifiedBy>debbie_whetzel</cp:lastModifiedBy>
  <dcterms:modified xsi:type="dcterms:W3CDTF">2012-02-27T13:19:52Z</dcterms:modified>
  <cp:revision>89</cp:revision>
  <dc:subject/>
  <dc:title>Slide 1</dc:title>
</cp:coreProperties>
</file>